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416-FB82-4442-A305-A1A72F22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C90-3728-470E-9EF7-73C71C8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3ED-D7C9-4EDA-9D49-9221C6C0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52A-DD5D-4A1C-BCEC-D058EB51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227-34F7-4F03-BDC6-31B1A47F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292-C549-4AB2-BFB1-A5362588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A78-78E9-4655-9825-5AA5BB11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1B0-4F27-4597-B9BE-E030EEA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488-5F1B-4145-AA02-67FF003A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332-3455-4115-8307-EB22C91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BCA-A0E2-47A4-BDDB-599220B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50C-3215-4CE5-B142-2F9CC630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571-05D6-4CBE-A8E4-BF42F0253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name here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born on _________________ and died on _______________, or I am still alive and living in 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ttended ____________________ school as a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ttended ____________________ college/university when I was ol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y greatest accomplishment, or what I was mostly known for i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important accomplishment wa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rd important accomplishment wa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picture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4T19:18:06Z</dcterms:modified>
  <cp:revision>6</cp:revision>
  <dc:subject/>
  <dc:title>Who Am I?</dc:title>
</cp:coreProperties>
</file>